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11C18-ECE4-468E-9FA2-E4A6A9B11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795BB-4511-4C23-937E-619AAF31E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3D8C1-E75D-4C6C-876D-111127CA4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865A3-A3F5-4D69-A166-2C78E681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6EE7C-B798-449C-A580-38552F741D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E893A-C958-4D40-B7B8-80AF5A768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B1E98-40B0-4C86-8DED-99A92744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1088-8400-427B-A5FD-A13B17B26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E91F8-76AE-44B1-8CD5-E00D62B33A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A9E43-6D78-400C-AAB9-1AB370EE5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7D998-7803-4C61-975A-BB0E64C5A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8078-6BE1-4BB3-986F-6DC27DA48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E3638-72FD-442F-8875-A99D3044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56B06-74E8-4E9D-9156-740D942BD0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328B2-5FAE-4B9D-BCB8-6B3CB8370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E3742-8469-4171-BB36-FFE18A34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67FCC-740D-4CFB-B2FC-F7CB5A0C0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DD514-6FC0-4AA7-815C-E304E95B5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E6E7B-8BFA-4FB3-86B7-1BB27F58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3A31-5E55-4738-BA1D-942660E93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257B-42D2-45ED-83C7-5D9BB4172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F45A3-BBDA-4393-B636-83F4CE5E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F16AB-A229-41B8-8136-DF5B227F5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94D2A-9E7C-4EB8-8249-0DBD78DD96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9403A-6835-4E5A-8A93-03FC03B3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09DB7-D6FB-4FB9-B385-C587314D2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9AF04-3F5D-4A7A-97EF-C48672460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15C8E-417E-459B-BD92-C824AA866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963F8-D4E4-49AA-B9F3-27270942A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EE7B-2D4C-45BC-BE98-DFDF188F29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B54F9-046A-4985-912C-88215990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E164A-E736-4931-8F35-53239D8D6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59509-07F4-4390-9660-B39FBFAF79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7CF52-D667-42BB-884B-44F4C7F7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4834F-674A-4AB1-B6F8-29EC257D7D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71E4E-89AF-4757-BAA3-D0091E081C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F2B4-D00E-4B12-ABB4-F151F1A7C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E18B8-F29F-43A8-97D3-BAE5AEB673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E561F-1594-462E-AB56-04CFC28E4B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469C9-DBA9-4097-B3D6-3F6CC9AA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45FEF-2382-4911-B75D-0DE74F4D6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8BC72-05D7-494A-8D50-1A51D4F4A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9A90-92C6-4990-934A-7142D77C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214F2-B4FE-4D3A-8851-10EBF53326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5DA5E-09CF-466E-84E1-EB229A116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35E9B-62B0-4EAA-A024-03295FCA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55D19-E2BC-4247-B50A-9E26672B8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44C93-7E9F-4108-9B80-D43EBACA4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1A05-9D94-4847-8152-830272D1A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F0D3F-882D-49CF-A635-20BDDBE19F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C356E-DE26-40BA-8A0C-DE1331E6F6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CC51C-0195-4A40-977B-D296D97D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F00A-C8A7-4E6B-A4D9-1343BBDEFE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DDD4-D45A-4631-8523-28294BDE4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58F12-5DB2-411B-A22F-9CE18617C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99A4-286C-4EDA-8540-F87D7917B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F26AD-EB03-4F99-AE6F-68EAED947D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19069-6A8E-44DD-B5E2-471A6804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AC74-E958-4E5E-BF15-848E1DD27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CE20-A588-4622-B7CE-F01DC6828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9915-330E-401F-9133-C975DC43D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0F1D-448F-4C1A-AA59-0F75AE997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33F2-1571-4312-B77C-ED3023E72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0885-2C58-41B5-9871-5E62EBFFF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3F28-ADC7-4148-BDD9-AD81872A6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6B5E-7C6A-4DC7-8E60-F2DE94582F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0EFD-5215-4ECB-AFF1-88B3ECC6C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14400" y="366480"/>
            <a:ext cx="7385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9FBD-1C70-490B-B58A-4D5F87633E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1284-6A5C-48E0-9D37-95C71752B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A80A-4F55-45B9-BDF0-53384A04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2B84-3F1B-4699-A23B-2BA3C80BC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CEC5-593B-4915-A497-160AADE3F1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1457-2BE1-41AC-BE6B-A41972A2B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348B-6487-4115-BBF0-911478DA8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748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748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17760" y="41734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E602-62B6-47AC-9E2E-50E1079A8C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17E7-0252-412A-BE93-4FF3FA026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31DA-E38C-4140-B120-69470CDDF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4EAF-DC5D-42FA-B035-FCFDF4C35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366480"/>
            <a:ext cx="73850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F363-3F40-4B93-B3AD-292B9360D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F256-F055-479B-B3C4-822B3C9E2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41734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EB04-0F1E-4431-9A72-F377124E6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4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734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07A-D4B8-455E-ABDD-066551C34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AutoShape 2"/>
          <p:cNvSpPr/>
          <p:nvPr/>
        </p:nvSpPr>
        <p:spPr>
          <a:xfrm>
            <a:off x="-11160" y="281160"/>
            <a:ext cx="9155160" cy="162072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3"/>
          <p:cNvSpPr/>
          <p:nvPr/>
        </p:nvSpPr>
        <p:spPr>
          <a:xfrm>
            <a:off x="-20520" y="533520"/>
            <a:ext cx="9161280" cy="100620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4"/>
          <p:cNvGrpSpPr/>
          <p:nvPr/>
        </p:nvGrpSpPr>
        <p:grpSpPr>
          <a:xfrm>
            <a:off x="7740720" y="347760"/>
            <a:ext cx="380880" cy="360360"/>
            <a:chOff x="7740720" y="347760"/>
            <a:chExt cx="380880" cy="360360"/>
          </a:xfrm>
        </p:grpSpPr>
        <p:sp>
          <p:nvSpPr>
            <p:cNvPr id="5" name="Oval 5"/>
            <p:cNvSpPr/>
            <p:nvPr/>
          </p:nvSpPr>
          <p:spPr>
            <a:xfrm>
              <a:off x="7740720" y="347760"/>
              <a:ext cx="380880" cy="36036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6"/>
            <p:cNvSpPr/>
            <p:nvPr/>
          </p:nvSpPr>
          <p:spPr>
            <a:xfrm>
              <a:off x="7740720" y="347760"/>
              <a:ext cx="252360" cy="23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Group 7"/>
          <p:cNvGrpSpPr/>
          <p:nvPr/>
        </p:nvGrpSpPr>
        <p:grpSpPr>
          <a:xfrm>
            <a:off x="8153280" y="54000"/>
            <a:ext cx="603360" cy="585720"/>
            <a:chOff x="8153280" y="54000"/>
            <a:chExt cx="603360" cy="585720"/>
          </a:xfrm>
        </p:grpSpPr>
        <p:sp>
          <p:nvSpPr>
            <p:cNvPr id="8" name="Oval 8"/>
            <p:cNvSpPr/>
            <p:nvPr/>
          </p:nvSpPr>
          <p:spPr>
            <a:xfrm>
              <a:off x="8153280" y="54000"/>
              <a:ext cx="603360" cy="58572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9"/>
            <p:cNvSpPr/>
            <p:nvPr/>
          </p:nvSpPr>
          <p:spPr>
            <a:xfrm>
              <a:off x="8153280" y="152280"/>
              <a:ext cx="501840" cy="389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Group 10"/>
          <p:cNvGrpSpPr/>
          <p:nvPr/>
        </p:nvGrpSpPr>
        <p:grpSpPr>
          <a:xfrm>
            <a:off x="171360" y="819000"/>
            <a:ext cx="714600" cy="755640"/>
            <a:chOff x="171360" y="819000"/>
            <a:chExt cx="714600" cy="755640"/>
          </a:xfrm>
        </p:grpSpPr>
        <p:sp>
          <p:nvSpPr>
            <p:cNvPr id="11" name="Oval 11"/>
            <p:cNvSpPr/>
            <p:nvPr/>
          </p:nvSpPr>
          <p:spPr>
            <a:xfrm>
              <a:off x="171360" y="819000"/>
              <a:ext cx="714600" cy="7556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>
              <a:off x="171360" y="946080"/>
              <a:ext cx="593640" cy="50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4"/>
          <p:cNvSpPr/>
          <p:nvPr/>
        </p:nvSpPr>
        <p:spPr>
          <a:xfrm>
            <a:off x="457200" y="640080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ext Box 15"/>
          <p:cNvSpPr/>
          <p:nvPr/>
        </p:nvSpPr>
        <p:spPr>
          <a:xfrm>
            <a:off x="3124080" y="6400800"/>
            <a:ext cx="28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D248-4392-41EA-8500-8B2130E1C3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2"/>
          <p:cNvSpPr/>
          <p:nvPr/>
        </p:nvSpPr>
        <p:spPr>
          <a:xfrm>
            <a:off x="-11160" y="281160"/>
            <a:ext cx="9155160" cy="162072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-20520" y="533520"/>
            <a:ext cx="9161280" cy="100620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740720" y="347760"/>
            <a:ext cx="380880" cy="360360"/>
            <a:chOff x="7740720" y="347760"/>
            <a:chExt cx="380880" cy="360360"/>
          </a:xfrm>
        </p:grpSpPr>
        <p:sp>
          <p:nvSpPr>
            <p:cNvPr id="59" name="Oval 5"/>
            <p:cNvSpPr/>
            <p:nvPr/>
          </p:nvSpPr>
          <p:spPr>
            <a:xfrm>
              <a:off x="7740720" y="347760"/>
              <a:ext cx="380880" cy="36036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7740720" y="347760"/>
              <a:ext cx="252360" cy="23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7"/>
          <p:cNvGrpSpPr/>
          <p:nvPr/>
        </p:nvGrpSpPr>
        <p:grpSpPr>
          <a:xfrm>
            <a:off x="8153280" y="54000"/>
            <a:ext cx="603360" cy="585720"/>
            <a:chOff x="8153280" y="54000"/>
            <a:chExt cx="603360" cy="585720"/>
          </a:xfrm>
        </p:grpSpPr>
        <p:sp>
          <p:nvSpPr>
            <p:cNvPr id="62" name="Oval 8"/>
            <p:cNvSpPr/>
            <p:nvPr/>
          </p:nvSpPr>
          <p:spPr>
            <a:xfrm>
              <a:off x="8153280" y="54000"/>
              <a:ext cx="603360" cy="58572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153280" y="152280"/>
              <a:ext cx="501840" cy="389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10"/>
          <p:cNvGrpSpPr/>
          <p:nvPr/>
        </p:nvGrpSpPr>
        <p:grpSpPr>
          <a:xfrm>
            <a:off x="171360" y="819000"/>
            <a:ext cx="714600" cy="755640"/>
            <a:chOff x="171360" y="819000"/>
            <a:chExt cx="714600" cy="755640"/>
          </a:xfrm>
        </p:grpSpPr>
        <p:sp>
          <p:nvSpPr>
            <p:cNvPr id="65" name="Oval 11"/>
            <p:cNvSpPr/>
            <p:nvPr/>
          </p:nvSpPr>
          <p:spPr>
            <a:xfrm>
              <a:off x="171360" y="819000"/>
              <a:ext cx="714600" cy="7556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171360" y="946080"/>
              <a:ext cx="593640" cy="501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914400" y="366480"/>
            <a:ext cx="73850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57200" y="6477120"/>
            <a:ext cx="2131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3124080" y="6477120"/>
            <a:ext cx="2894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27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7B99A8-8856-43D9-A341-5234DB5F775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profs.com/quiz-school/story.php?title=uk-geography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youtube.com/watch?v=POqIg0XlTAE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4105440" cy="3066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900000" y="1568520"/>
            <a:ext cx="7086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eography of the United King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4292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IS Giacomo Antoniet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5770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Scot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04840" y="1114560"/>
            <a:ext cx="5195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mountainous countr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apital is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Edinburg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jor Cities: Aberdeen, Dundee, Glasg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Highest point: 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Ben Nevis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1,343 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mous for its lochs (lakes), clans, kilts, medieval cast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326200" y="1773360"/>
            <a:ext cx="3740040" cy="45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979640" y="4813200"/>
            <a:ext cx="2338200" cy="204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5003640" y="23760"/>
            <a:ext cx="1513080" cy="1565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499080" y="80640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 Scottish This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-12600" y="36360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know what’s the monster’s na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50920" y="1177920"/>
            <a:ext cx="4857840" cy="499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255840" y="609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ch 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7559640" y="54000"/>
            <a:ext cx="151128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274680"/>
            <a:ext cx="497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W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79280" y="1066680"/>
            <a:ext cx="4716720" cy="34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ountainous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pital City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Card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 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nowd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085 me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ow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ywi) 103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rgest Lake: 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260360" y="4500720"/>
            <a:ext cx="3024360" cy="2211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5081760" y="409104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4680000" y="539640"/>
            <a:ext cx="4127400" cy="390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4"/>
          <a:stretch/>
        </p:blipFill>
        <p:spPr>
          <a:xfrm>
            <a:off x="7740720" y="-90360"/>
            <a:ext cx="1458720" cy="13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044720" y="539640"/>
            <a:ext cx="8099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y to guess why the Welsh flag depicts a red drag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900000" y="1800360"/>
            <a:ext cx="7334280" cy="503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63440" y="360360"/>
            <a:ext cx="1457280" cy="13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39640" y="228600"/>
            <a:ext cx="52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Northern Ire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600440" y="1944720"/>
            <a:ext cx="43992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 the northeas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ern par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f the island of Ir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pital City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l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lieve Donar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ountain 848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iver Ban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29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rgest Lak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ugh Neag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93680" y="1773360"/>
            <a:ext cx="4249800" cy="464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6227640" y="22860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7667640" y="595440"/>
            <a:ext cx="14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ne pound with the flax plant of 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y do you think this place is called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Giant´s Caus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5908680"/>
            <a:ext cx="8532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iant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ausewa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ult of an ancient volcanic eru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619280" y="1203480"/>
            <a:ext cx="6273720" cy="47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720720" y="6114960"/>
            <a:ext cx="828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d using Crossword Puzzle Maker http://www.puzzle-maker.com/C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440000" y="539640"/>
            <a:ext cx="577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est your knowl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540072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908000" y="2205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11280" y="2349360"/>
            <a:ext cx="80010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Do you know any cities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How many parts can the UK be divided into? What are th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y does London play a significant role in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y do people say England when they mean UK? Have you ever made the same mista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buClr>
                <a:srgbClr val="7da0d3"/>
              </a:buClr>
              <a:buFont typeface="Wingdings" charset="2"/>
              <a:buChar char=""/>
              <a:tabLst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33da9"/>
                </a:solidFill>
                <a:latin typeface="Arial"/>
              </a:rPr>
              <a:t>What are the geographic features of the U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7040" indent="-527040">
              <a:spcBef>
                <a:spcPts val="601"/>
              </a:spcBef>
              <a:tabLst>
                <a:tab algn="l" pos="0"/>
                <a:tab algn="l" pos="52704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510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27040"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68360" y="1878120"/>
            <a:ext cx="4800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ficial name of the UK is the </a:t>
            </a:r>
            <a:r>
              <a:rPr b="1" lang="en-US" sz="1800" spc="-1" strike="noStrike">
                <a:solidFill>
                  <a:srgbClr val="692aa2"/>
                </a:solidFill>
                <a:latin typeface="Arial"/>
              </a:rPr>
              <a:t>United Kingdom of Great Britain and Northern Ire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K is made up of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at Britain (England, Scotland, and the principality of Wales. 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rthern Ireland (also known as Ulste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erous smaller is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68960" y="887400"/>
            <a:ext cx="3346560" cy="547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rcRect l="39773" t="0" r="0" b="60118"/>
          <a:stretch/>
        </p:blipFill>
        <p:spPr>
          <a:xfrm>
            <a:off x="3902040" y="2462040"/>
            <a:ext cx="2036880" cy="131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835280" y="426960"/>
            <a:ext cx="3313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72960" y="260280"/>
            <a:ext cx="47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808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38080" y="228600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9280" y="1800360"/>
            <a:ext cx="41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ur seas which  border the UK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glish Channel - separates UK from continental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 the east  the North Se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 the west the Irish Se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d the Atlantic Ocea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995640" y="1619280"/>
            <a:ext cx="5004000" cy="41385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179280" y="5940360"/>
            <a:ext cx="8820360" cy="539640"/>
          </a:xfrm>
          <a:prstGeom prst="roundRect">
            <a:avLst>
              <a:gd name="adj" fmla="val 29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the English Channel there is the Channel Tunnel, which links the UK to Fr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33520" y="1515960"/>
            <a:ext cx="449568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s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eographical term which inclu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 of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ll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hore isl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ik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le of 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has its own parliament and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tish Isles is made up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capital is Lond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Edinburg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capital is Cardiff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Belfa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Ire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 capital is Dubli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b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thousand small isl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64120" y="914400"/>
            <a:ext cx="3352680" cy="5562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79280" y="441360"/>
            <a:ext cx="5616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itis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84080" y="479520"/>
            <a:ext cx="6983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and: morph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0" y="1785960"/>
            <a:ext cx="4392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largest country of the U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ly 35 km from Fr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h in hills and agricultural 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 north is mostly covered in moorland and mountains (Dartmoor, Exmo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643280" y="1279440"/>
            <a:ext cx="403884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Capital City: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ajor Cities: Birmingham, Leeds, Liverpool, Manchester, Sheffie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319640" y="2879640"/>
            <a:ext cx="4951440" cy="3830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20816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79280" y="1646280"/>
            <a:ext cx="403884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ghest poi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cafell Pik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978 m (part of the Cumbrian Mountains in North West England = known as Lake Distri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gest river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ham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346 k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long coastline of 3,200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79280" y="9360"/>
            <a:ext cx="7813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England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 mountains and riv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329000" y="961920"/>
            <a:ext cx="4815000" cy="540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7977240" y="9360"/>
            <a:ext cx="9730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720720" y="5754600"/>
            <a:ext cx="828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proprofs.com/quiz-school/story.php?title=uk-ge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2160" y="2103480"/>
            <a:ext cx="2247840" cy="275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440000" y="539640"/>
            <a:ext cx="5770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Test your knowled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49120" y="404640"/>
            <a:ext cx="891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don- Class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7740720" y="1079640"/>
            <a:ext cx="1344600" cy="1168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763640" y="6237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POqIg0XlTA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619280" y="1427040"/>
            <a:ext cx="5400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ch the video and try to focus you attention on the places described, what are the things you would like to see in London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About_London_(8_8_ESL_video).mp4" descr=""/>
          <p:cNvPicPr/>
          <p:nvPr/>
        </p:nvPicPr>
        <p:blipFill>
          <a:blip r:embed="rId3"/>
          <a:stretch/>
        </p:blipFill>
        <p:spPr>
          <a:xfrm>
            <a:off x="1763640" y="2398680"/>
            <a:ext cx="47642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BOLDINI FEDERICA</cp:lastModifiedBy>
  <cp:lastPrinted>2013-05-09T14:40:01Z</cp:lastPrinted>
  <dcterms:modified xsi:type="dcterms:W3CDTF">2013-05-09T15:45:53Z</dcterms:modified>
  <cp:revision>102</cp:revision>
  <dc:subject/>
  <dc:title>PowerPoint Template</dc:title>
</cp:coreProperties>
</file>